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7B1E3-829C-4DC5-A25A-40ECD6450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5F8B-FA7F-4160-BFFB-DA15D02FF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CF49A-C170-499C-9B06-ACEC905AF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B77D6-F620-409A-9809-4DEC7D25B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3AF50-E540-4E45-A6EB-F33A8843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E256-89D5-4496-9B63-4F94B2C2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90DD-035F-4E97-97A4-6F5CDD04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19D7-4D6D-405B-8E5A-4E69FBAEC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1584-5B53-4C44-B772-5D7DC502B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E96D-858B-45BF-898F-E949F2C4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68AB-7DF4-488E-90AD-2501A7977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DB31-E11D-4DCF-933F-64C75B534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28FE-B7A6-4585-8FF4-B65388389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Gurudwara Bangla Sahib"/>
          <p:cNvPicPr/>
          <p:nvPr/>
        </p:nvPicPr>
        <p:blipFill>
          <a:blip r:embed="rId1">
            <a:lum contrast="-20000"/>
          </a:blip>
          <a:stretch/>
        </p:blipFill>
        <p:spPr>
          <a:xfrm>
            <a:off x="1066680" y="304920"/>
            <a:ext cx="7012080" cy="61736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HISTORY OF BANGLA SAHIB:-</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rudwara Bangla Sahib : Gurudwara Bangla Sahib is one of the most popular place of worship in Delhi. Its gold-plated dome and white façade towers above Bangla Sahib road effortlessly. On holidays especially, this place is packed with people of all religions and denominations. The gurudwara is built on the site of a house where Guru Harkishen Dev, the eight guru of the Sikhs, had stayed when he visited Delhi in 1664. The tank, which you can still see in the compound was apparently blessed by the Guru himself and can cure people of small pox and cholera. Enthusiasts of Sikh history can visit the Baba Baghel Singh Museum within the gurudwara comple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3:57:09Z</dcterms:created>
  <dc:creator>pc</dc:creator>
  <dc:description/>
  <dc:language>en-US</dc:language>
  <cp:lastModifiedBy>pc</cp:lastModifiedBy>
  <dcterms:modified xsi:type="dcterms:W3CDTF">2010-03-23T15:48:15Z</dcterms:modified>
  <cp:revision>2</cp:revision>
  <dc:subject/>
  <dc:title>Slide 1</dc:title>
</cp:coreProperties>
</file>